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6CB38-67D7-463D-A629-3E960D0FA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BE36C-EF40-4A9D-9904-416DE0D22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9C070-E6B3-418F-BE12-33E5E8472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6A3E8-5CD9-49BF-97B0-BE8A0B6FE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945A4-E339-4CAD-90AD-989223C7F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2E285-39D6-4C25-819E-049A09021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C5D95-596B-4C06-8048-FC827AC1A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87317-2D24-496A-825C-5DE9B48B5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86F70-7195-4B53-8A76-C78697B03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672FC-56EA-4A81-96D0-01E514859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6A0B6-C89D-4E71-BBD0-9D0AC8051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0BED7-6A01-48FF-AD6B-01FF15613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9906-B0FB-4EA7-A354-6FCA87420979}"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Box 4"/>
          <p:cNvSpPr/>
          <p:nvPr/>
        </p:nvSpPr>
        <p:spPr>
          <a:xfrm>
            <a:off x="3164040" y="2705040"/>
            <a:ext cx="58640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SemiBold"/>
              </a:rPr>
              <a:t>Galant</a:t>
            </a:r>
            <a:endParaRPr b="0" lang="en-US" sz="8800" spc="-1" strike="noStrike">
              <a:solidFill>
                <a:srgbClr val="000000"/>
              </a:solidFill>
              <a:latin typeface="Calibri"/>
            </a:endParaRPr>
          </a:p>
        </p:txBody>
      </p:sp>
      <p:pic>
        <p:nvPicPr>
          <p:cNvPr id="384" name="" descr=""/>
          <p:cNvPicPr/>
          <p:nvPr/>
        </p:nvPicPr>
        <p:blipFill>
          <a:blip r:embed="rId1"/>
          <a:stretch/>
        </p:blipFill>
        <p:spPr>
          <a:xfrm>
            <a:off x="1504800" y="685800"/>
            <a:ext cx="9182160" cy="548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57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23"/>
          <p:cNvSpPr/>
          <p:nvPr/>
        </p:nvSpPr>
        <p:spPr>
          <a:xfrm>
            <a:off x="914400" y="1917720"/>
            <a:ext cx="302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SemiBold"/>
              </a:rPr>
              <a:t>Hello</a:t>
            </a:r>
            <a:endParaRPr b="0" lang="en-US" sz="4800" spc="-1" strike="noStrike">
              <a:solidFill>
                <a:srgbClr val="000000"/>
              </a:solidFill>
              <a:latin typeface="Calibri"/>
            </a:endParaRPr>
          </a:p>
        </p:txBody>
      </p:sp>
      <p:sp>
        <p:nvSpPr>
          <p:cNvPr id="386" name="TextBox 27"/>
          <p:cNvSpPr/>
          <p:nvPr/>
        </p:nvSpPr>
        <p:spPr>
          <a:xfrm>
            <a:off x="914400" y="2471760"/>
            <a:ext cx="4476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SemiBold"/>
              </a:rPr>
              <a:t>World</a:t>
            </a:r>
            <a:endParaRPr b="0" lang="en-US" sz="4800" spc="-1" strike="noStrike">
              <a:solidFill>
                <a:srgbClr val="000000"/>
              </a:solidFill>
              <a:latin typeface="Calibri"/>
            </a:endParaRPr>
          </a:p>
        </p:txBody>
      </p:sp>
      <p:sp>
        <p:nvSpPr>
          <p:cNvPr id="387" name="Rectangle 28"/>
          <p:cNvSpPr/>
          <p:nvPr/>
        </p:nvSpPr>
        <p:spPr>
          <a:xfrm>
            <a:off x="914400" y="3778200"/>
            <a:ext cx="3289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7f7f7f"/>
                </a:solidFill>
                <a:latin typeface="Lato"/>
                <a:ea typeface="Lato"/>
              </a:rPr>
              <a:t>Lorem ipsum dolor sit amet, lacus nulla ac netus nibh aliquet, porttitor ligula justo libero vivamus porttitor dolor, conubia mollit. Sapien nam suspendisse, tincidunt eget ante tincidunt, eros in</a:t>
            </a:r>
            <a:r>
              <a:rPr b="0" lang="en-US" sz="900" spc="-1" strike="noStrike">
                <a:solidFill>
                  <a:srgbClr val="7f7f7f"/>
                </a:solidFill>
                <a:latin typeface="Lato"/>
                <a:ea typeface="Lato"/>
              </a:rPr>
              <a:t> </a:t>
            </a:r>
            <a:r>
              <a:rPr b="0" lang="id-ID" sz="900" spc="-1" strike="noStrike">
                <a:solidFill>
                  <a:srgbClr val="7f7f7f"/>
                </a:solidFill>
                <a:latin typeface="Lato"/>
                <a:ea typeface="Lato"/>
              </a:rPr>
              <a:t>lacus nulla ac netus nibh aliquet, porttitor ligula justo libero vivamus porttitor dolor, conubia mollit. Sapien nam</a:t>
            </a:r>
            <a:endParaRPr b="0" lang="en-US" sz="900" spc="-1" strike="noStrike">
              <a:solidFill>
                <a:srgbClr val="000000"/>
              </a:solidFill>
              <a:latin typeface="Calibri"/>
            </a:endParaRPr>
          </a:p>
        </p:txBody>
      </p:sp>
      <p:sp>
        <p:nvSpPr>
          <p:cNvPr id="388" name="Rectangle 31"/>
          <p:cNvSpPr/>
          <p:nvPr/>
        </p:nvSpPr>
        <p:spPr>
          <a:xfrm>
            <a:off x="914400" y="4767120"/>
            <a:ext cx="328932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7f7f7f"/>
                </a:solidFill>
                <a:latin typeface="Lato"/>
                <a:ea typeface="Lato"/>
              </a:rPr>
              <a:t>Lorem ipsum dolor sit amet, lacus nulla ac netus nibh aliquet, porttitor ligula justo libero vivamus porttitor dolor, conubia mollit. Sapien nam suspendisse, tincidunt eget ante tincidunt, eros in</a:t>
            </a:r>
            <a:r>
              <a:rPr b="0" lang="en-US" sz="900" spc="-1" strike="noStrike">
                <a:solidFill>
                  <a:srgbClr val="7f7f7f"/>
                </a:solidFill>
                <a:latin typeface="Lato"/>
                <a:ea typeface="Lato"/>
              </a:rPr>
              <a:t> </a:t>
            </a:r>
            <a:r>
              <a:rPr b="0" lang="id-ID" sz="900" spc="-1" strike="noStrike">
                <a:solidFill>
                  <a:srgbClr val="7f7f7f"/>
                </a:solidFill>
                <a:latin typeface="Lato"/>
                <a:ea typeface="Lato"/>
              </a:rPr>
              <a:t>lacus nulla ac netus nibh aliquet, </a:t>
            </a:r>
            <a:endParaRPr b="0" lang="en-US" sz="900" spc="-1" strike="noStrike">
              <a:solidFill>
                <a:srgbClr val="000000"/>
              </a:solidFill>
              <a:latin typeface="Calibri"/>
            </a:endParaRPr>
          </a:p>
        </p:txBody>
      </p:sp>
      <p:pic>
        <p:nvPicPr>
          <p:cNvPr id="389" name="" descr=""/>
          <p:cNvPicPr/>
          <p:nvPr/>
        </p:nvPicPr>
        <p:blipFill>
          <a:blip r:embed="rId1"/>
          <a:stretch/>
        </p:blipFill>
        <p:spPr>
          <a:xfrm>
            <a:off x="5524200" y="0"/>
            <a:ext cx="52578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4"/>
          <p:cNvSpPr/>
          <p:nvPr/>
        </p:nvSpPr>
        <p:spPr>
          <a:xfrm>
            <a:off x="0" y="0"/>
            <a:ext cx="4724280" cy="6858000"/>
          </a:xfrm>
          <a:prstGeom prst="rect">
            <a:avLst/>
          </a:prstGeom>
          <a:solidFill>
            <a:srgbClr val="2b0c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Rectangle 5"/>
          <p:cNvSpPr/>
          <p:nvPr/>
        </p:nvSpPr>
        <p:spPr>
          <a:xfrm>
            <a:off x="7194600" y="264492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Galant</a:t>
            </a:r>
            <a:endParaRPr b="0" lang="en-US" sz="4400" spc="-1" strike="noStrike">
              <a:solidFill>
                <a:srgbClr val="000000"/>
              </a:solidFill>
              <a:latin typeface="Calibri"/>
            </a:endParaRPr>
          </a:p>
        </p:txBody>
      </p:sp>
      <p:sp>
        <p:nvSpPr>
          <p:cNvPr id="392" name="Rectangle 6"/>
          <p:cNvSpPr/>
          <p:nvPr/>
        </p:nvSpPr>
        <p:spPr>
          <a:xfrm>
            <a:off x="7194600" y="3724200"/>
            <a:ext cx="3338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393" name="Rectangle 7"/>
          <p:cNvSpPr/>
          <p:nvPr/>
        </p:nvSpPr>
        <p:spPr>
          <a:xfrm>
            <a:off x="7194600" y="4659480"/>
            <a:ext cx="3338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a:t>
            </a:r>
            <a:endParaRPr b="0" lang="en-US" sz="900" spc="-1" strike="noStrike">
              <a:solidFill>
                <a:srgbClr val="000000"/>
              </a:solidFill>
              <a:latin typeface="Calibri"/>
            </a:endParaRPr>
          </a:p>
        </p:txBody>
      </p:sp>
      <p:sp>
        <p:nvSpPr>
          <p:cNvPr id="394" name="Rectangle 8"/>
          <p:cNvSpPr/>
          <p:nvPr/>
        </p:nvSpPr>
        <p:spPr>
          <a:xfrm>
            <a:off x="7194600" y="204300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Welcome To</a:t>
            </a:r>
            <a:endParaRPr b="0" lang="en-US" sz="4400" spc="-1" strike="noStrike">
              <a:solidFill>
                <a:srgbClr val="000000"/>
              </a:solidFill>
              <a:latin typeface="Calibri"/>
            </a:endParaRPr>
          </a:p>
        </p:txBody>
      </p:sp>
      <p:sp>
        <p:nvSpPr>
          <p:cNvPr id="395" name="Rectangle 9"/>
          <p:cNvSpPr/>
          <p:nvPr/>
        </p:nvSpPr>
        <p:spPr>
          <a:xfrm>
            <a:off x="7194600" y="3524400"/>
            <a:ext cx="1736640" cy="25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Montserrat Medium"/>
                <a:ea typeface="Roboto Slab"/>
              </a:rPr>
              <a:t>WRITE SOMETITLE</a:t>
            </a:r>
            <a:endParaRPr b="0" lang="en-US" sz="1000" spc="-1" strike="noStrike">
              <a:solidFill>
                <a:srgbClr val="000000"/>
              </a:solidFill>
              <a:latin typeface="Calibri"/>
            </a:endParaRPr>
          </a:p>
        </p:txBody>
      </p:sp>
      <p:pic>
        <p:nvPicPr>
          <p:cNvPr id="396" name="" descr=""/>
          <p:cNvPicPr/>
          <p:nvPr/>
        </p:nvPicPr>
        <p:blipFill>
          <a:blip r:embed="rId1"/>
          <a:stretch/>
        </p:blipFill>
        <p:spPr>
          <a:xfrm>
            <a:off x="1981080" y="746280"/>
            <a:ext cx="4114800" cy="536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19"/>
          <p:cNvSpPr/>
          <p:nvPr/>
        </p:nvSpPr>
        <p:spPr>
          <a:xfrm>
            <a:off x="1674720" y="1133640"/>
            <a:ext cx="3487680" cy="4590720"/>
          </a:xfrm>
          <a:prstGeom prst="rect">
            <a:avLst/>
          </a:prstGeom>
          <a:solidFill>
            <a:srgbClr val="2b0c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Rectangle 20"/>
          <p:cNvSpPr/>
          <p:nvPr/>
        </p:nvSpPr>
        <p:spPr>
          <a:xfrm>
            <a:off x="6095880" y="216540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Galant</a:t>
            </a:r>
            <a:endParaRPr b="0" lang="en-US" sz="4400" spc="-1" strike="noStrike">
              <a:solidFill>
                <a:srgbClr val="000000"/>
              </a:solidFill>
              <a:latin typeface="Calibri"/>
            </a:endParaRPr>
          </a:p>
        </p:txBody>
      </p:sp>
      <p:sp>
        <p:nvSpPr>
          <p:cNvPr id="399" name="Rectangle 21"/>
          <p:cNvSpPr/>
          <p:nvPr/>
        </p:nvSpPr>
        <p:spPr>
          <a:xfrm>
            <a:off x="6095880" y="3424320"/>
            <a:ext cx="42544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400" name="Rectangle 23"/>
          <p:cNvSpPr/>
          <p:nvPr/>
        </p:nvSpPr>
        <p:spPr>
          <a:xfrm>
            <a:off x="6095880" y="156204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More About</a:t>
            </a:r>
            <a:endParaRPr b="0" lang="en-US" sz="4400" spc="-1" strike="noStrike">
              <a:solidFill>
                <a:srgbClr val="000000"/>
              </a:solidFill>
              <a:latin typeface="Calibri"/>
            </a:endParaRPr>
          </a:p>
        </p:txBody>
      </p:sp>
      <p:sp>
        <p:nvSpPr>
          <p:cNvPr id="401" name="Rectangle 29"/>
          <p:cNvSpPr/>
          <p:nvPr/>
        </p:nvSpPr>
        <p:spPr>
          <a:xfrm>
            <a:off x="6095880" y="3043080"/>
            <a:ext cx="173700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WRITE SOMETITLE</a:t>
            </a:r>
            <a:endParaRPr b="0" lang="en-US" sz="1000" spc="-1" strike="noStrike">
              <a:solidFill>
                <a:srgbClr val="000000"/>
              </a:solidFill>
              <a:latin typeface="Calibri"/>
            </a:endParaRPr>
          </a:p>
        </p:txBody>
      </p:sp>
      <p:sp>
        <p:nvSpPr>
          <p:cNvPr id="402" name="TextBox 17"/>
          <p:cNvSpPr/>
          <p:nvPr/>
        </p:nvSpPr>
        <p:spPr>
          <a:xfrm>
            <a:off x="6095880" y="4280040"/>
            <a:ext cx="4254480" cy="161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ea typeface="Lato"/>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000" spc="-1" strike="noStrike">
              <a:solidFill>
                <a:srgbClr val="000000"/>
              </a:solidFill>
              <a:latin typeface="Calibri"/>
            </a:endParaRPr>
          </a:p>
        </p:txBody>
      </p:sp>
      <p:pic>
        <p:nvPicPr>
          <p:cNvPr id="403" name="" descr=""/>
          <p:cNvPicPr/>
          <p:nvPr/>
        </p:nvPicPr>
        <p:blipFill>
          <a:blip r:embed="rId1"/>
          <a:stretch/>
        </p:blipFill>
        <p:spPr>
          <a:xfrm>
            <a:off x="1841040" y="1324080"/>
            <a:ext cx="3165480" cy="420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3" descr=""/>
          <p:cNvPicPr/>
          <p:nvPr/>
        </p:nvPicPr>
        <p:blipFill>
          <a:blip r:embed="rId1"/>
          <a:stretch/>
        </p:blipFill>
        <p:spPr>
          <a:xfrm>
            <a:off x="706320" y="847800"/>
            <a:ext cx="5661000" cy="7596000"/>
          </a:xfrm>
          <a:prstGeom prst="rect">
            <a:avLst/>
          </a:prstGeom>
          <a:ln w="0">
            <a:noFill/>
          </a:ln>
        </p:spPr>
      </p:pic>
      <p:sp>
        <p:nvSpPr>
          <p:cNvPr id="405" name="Rectangle 13"/>
          <p:cNvSpPr/>
          <p:nvPr/>
        </p:nvSpPr>
        <p:spPr>
          <a:xfrm>
            <a:off x="6737400" y="2625840"/>
            <a:ext cx="3457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Montserrat SemiBold"/>
                <a:ea typeface="Roboto Slab"/>
              </a:rPr>
              <a:t>Showcase</a:t>
            </a:r>
            <a:endParaRPr b="0" lang="en-US" sz="4000" spc="-1" strike="noStrike">
              <a:solidFill>
                <a:srgbClr val="000000"/>
              </a:solidFill>
              <a:latin typeface="Calibri"/>
            </a:endParaRPr>
          </a:p>
        </p:txBody>
      </p:sp>
      <p:sp>
        <p:nvSpPr>
          <p:cNvPr id="406" name="Rectangle 14"/>
          <p:cNvSpPr/>
          <p:nvPr/>
        </p:nvSpPr>
        <p:spPr>
          <a:xfrm>
            <a:off x="6737400" y="2079720"/>
            <a:ext cx="438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Montserrat SemiBold"/>
                <a:ea typeface="Roboto Slab"/>
              </a:rPr>
              <a:t>iPad</a:t>
            </a:r>
            <a:endParaRPr b="0" lang="en-US" sz="4000" spc="-1" strike="noStrike">
              <a:solidFill>
                <a:srgbClr val="000000"/>
              </a:solidFill>
              <a:latin typeface="Calibri"/>
            </a:endParaRPr>
          </a:p>
        </p:txBody>
      </p:sp>
      <p:sp>
        <p:nvSpPr>
          <p:cNvPr id="407" name="TextBox 7"/>
          <p:cNvSpPr/>
          <p:nvPr/>
        </p:nvSpPr>
        <p:spPr>
          <a:xfrm>
            <a:off x="6737400" y="4070520"/>
            <a:ext cx="448308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hart 1" descr=""/>
          <p:cNvPicPr/>
          <p:nvPr/>
        </p:nvPicPr>
        <p:blipFill>
          <a:blip r:embed="rId1"/>
          <a:stretch/>
        </p:blipFill>
        <p:spPr>
          <a:xfrm>
            <a:off x="3794040" y="1509840"/>
            <a:ext cx="5707080" cy="3838320"/>
          </a:xfrm>
          <a:prstGeom prst="rect">
            <a:avLst/>
          </a:prstGeom>
          <a:ln w="0">
            <a:noFill/>
          </a:ln>
        </p:spPr>
      </p:pic>
      <p:sp>
        <p:nvSpPr>
          <p:cNvPr id="409" name="Rectangle 2"/>
          <p:cNvSpPr/>
          <p:nvPr/>
        </p:nvSpPr>
        <p:spPr>
          <a:xfrm>
            <a:off x="8771040" y="1560600"/>
            <a:ext cx="227484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a:t>
            </a:r>
            <a:endParaRPr b="0" lang="en-US" sz="900" spc="-1" strike="noStrike">
              <a:solidFill>
                <a:srgbClr val="000000"/>
              </a:solidFill>
              <a:latin typeface="Calibri"/>
            </a:endParaRPr>
          </a:p>
        </p:txBody>
      </p:sp>
      <p:sp>
        <p:nvSpPr>
          <p:cNvPr id="410" name="Straight Connector 3"/>
          <p:cNvSpPr/>
          <p:nvPr/>
        </p:nvSpPr>
        <p:spPr>
          <a:xfrm>
            <a:off x="8872560" y="2517840"/>
            <a:ext cx="2274840" cy="0"/>
          </a:xfrm>
          <a:prstGeom prst="line">
            <a:avLst/>
          </a:prstGeom>
          <a:ln w="6480">
            <a:solidFill>
              <a:srgbClr val="d7c3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Rectangle 4"/>
          <p:cNvSpPr/>
          <p:nvPr/>
        </p:nvSpPr>
        <p:spPr>
          <a:xfrm>
            <a:off x="8771040" y="3006720"/>
            <a:ext cx="227484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a:t>
            </a:r>
            <a:endParaRPr b="0" lang="en-US" sz="900" spc="-1" strike="noStrike">
              <a:solidFill>
                <a:srgbClr val="000000"/>
              </a:solidFill>
              <a:latin typeface="Calibri"/>
            </a:endParaRPr>
          </a:p>
        </p:txBody>
      </p:sp>
      <p:sp>
        <p:nvSpPr>
          <p:cNvPr id="412" name="Straight Connector 5"/>
          <p:cNvSpPr/>
          <p:nvPr/>
        </p:nvSpPr>
        <p:spPr>
          <a:xfrm>
            <a:off x="8872560" y="3962520"/>
            <a:ext cx="2274840" cy="0"/>
          </a:xfrm>
          <a:prstGeom prst="line">
            <a:avLst/>
          </a:prstGeom>
          <a:ln w="6480">
            <a:solidFill>
              <a:srgbClr val="d7c3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Rectangle 6"/>
          <p:cNvSpPr/>
          <p:nvPr/>
        </p:nvSpPr>
        <p:spPr>
          <a:xfrm>
            <a:off x="8771040" y="4451400"/>
            <a:ext cx="227484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a:t>
            </a:r>
            <a:endParaRPr b="0" lang="en-US" sz="900" spc="-1" strike="noStrike">
              <a:solidFill>
                <a:srgbClr val="000000"/>
              </a:solidFill>
              <a:latin typeface="Calibri"/>
            </a:endParaRPr>
          </a:p>
        </p:txBody>
      </p:sp>
      <p:sp>
        <p:nvSpPr>
          <p:cNvPr id="414" name="Rectangle 7"/>
          <p:cNvSpPr/>
          <p:nvPr/>
        </p:nvSpPr>
        <p:spPr>
          <a:xfrm>
            <a:off x="863640" y="1104840"/>
            <a:ext cx="53928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Marketing </a:t>
            </a:r>
            <a:endParaRPr b="0" lang="en-US" sz="4400" spc="-1" strike="noStrike">
              <a:solidFill>
                <a:srgbClr val="000000"/>
              </a:solidFill>
              <a:latin typeface="Calibri"/>
            </a:endParaRPr>
          </a:p>
        </p:txBody>
      </p:sp>
      <p:sp>
        <p:nvSpPr>
          <p:cNvPr id="415" name="Rectangle 8"/>
          <p:cNvSpPr/>
          <p:nvPr/>
        </p:nvSpPr>
        <p:spPr>
          <a:xfrm>
            <a:off x="863640" y="1679400"/>
            <a:ext cx="53928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Strategy</a:t>
            </a:r>
            <a:endParaRPr b="0" lang="en-US" sz="4400" spc="-1" strike="noStrike">
              <a:solidFill>
                <a:srgbClr val="000000"/>
              </a:solidFill>
              <a:latin typeface="Calibri"/>
            </a:endParaRPr>
          </a:p>
        </p:txBody>
      </p:sp>
      <p:sp>
        <p:nvSpPr>
          <p:cNvPr id="416" name="TextBox 9"/>
          <p:cNvSpPr/>
          <p:nvPr/>
        </p:nvSpPr>
        <p:spPr>
          <a:xfrm>
            <a:off x="863640" y="3328920"/>
            <a:ext cx="3127320" cy="192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ea typeface="Lato"/>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hape 5015"/>
          <p:cNvSpPr/>
          <p:nvPr/>
        </p:nvSpPr>
        <p:spPr>
          <a:xfrm>
            <a:off x="812880" y="422424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83261" y="80788"/>
                </a:moveTo>
                <a:lnTo>
                  <a:pt x="83261" y="80788"/>
                </a:lnTo>
                <a:cubicBezTo>
                  <a:pt x="80266" y="83546"/>
                  <a:pt x="77470" y="86305"/>
                  <a:pt x="73277" y="87684"/>
                </a:cubicBezTo>
                <a:cubicBezTo>
                  <a:pt x="70482" y="89064"/>
                  <a:pt x="64891" y="89064"/>
                  <a:pt x="59101" y="89064"/>
                </a:cubicBezTo>
                <a:cubicBezTo>
                  <a:pt x="53510" y="89064"/>
                  <a:pt x="47920" y="89064"/>
                  <a:pt x="43727" y="86305"/>
                </a:cubicBezTo>
                <a:cubicBezTo>
                  <a:pt x="40732" y="84926"/>
                  <a:pt x="37936" y="82167"/>
                  <a:pt x="36539" y="80788"/>
                </a:cubicBezTo>
                <a:cubicBezTo>
                  <a:pt x="33743" y="78029"/>
                  <a:pt x="33743" y="75270"/>
                  <a:pt x="33743" y="72315"/>
                </a:cubicBezTo>
                <a:cubicBezTo>
                  <a:pt x="33743" y="70935"/>
                  <a:pt x="33743" y="69556"/>
                  <a:pt x="35141" y="68177"/>
                </a:cubicBezTo>
                <a:cubicBezTo>
                  <a:pt x="36539" y="66798"/>
                  <a:pt x="37936" y="66798"/>
                  <a:pt x="39334" y="66798"/>
                </a:cubicBezTo>
                <a:cubicBezTo>
                  <a:pt x="40732" y="66798"/>
                  <a:pt x="42129" y="66798"/>
                  <a:pt x="43727" y="68177"/>
                </a:cubicBezTo>
                <a:cubicBezTo>
                  <a:pt x="45124" y="68177"/>
                  <a:pt x="45124" y="69556"/>
                  <a:pt x="46522" y="72315"/>
                </a:cubicBezTo>
                <a:cubicBezTo>
                  <a:pt x="47920" y="73891"/>
                  <a:pt x="47920" y="75270"/>
                  <a:pt x="49317" y="76650"/>
                </a:cubicBezTo>
                <a:cubicBezTo>
                  <a:pt x="49317" y="76650"/>
                  <a:pt x="50715" y="78029"/>
                  <a:pt x="52113" y="79408"/>
                </a:cubicBezTo>
                <a:cubicBezTo>
                  <a:pt x="54908" y="79408"/>
                  <a:pt x="56306" y="79408"/>
                  <a:pt x="59101" y="79408"/>
                </a:cubicBezTo>
                <a:cubicBezTo>
                  <a:pt x="63494" y="79408"/>
                  <a:pt x="66289" y="79408"/>
                  <a:pt x="69084" y="78029"/>
                </a:cubicBezTo>
                <a:cubicBezTo>
                  <a:pt x="70482" y="76650"/>
                  <a:pt x="71880" y="75270"/>
                  <a:pt x="71880" y="72315"/>
                </a:cubicBezTo>
                <a:cubicBezTo>
                  <a:pt x="71880" y="70935"/>
                  <a:pt x="70482" y="69556"/>
                  <a:pt x="70482" y="68177"/>
                </a:cubicBezTo>
                <a:cubicBezTo>
                  <a:pt x="69084" y="66798"/>
                  <a:pt x="67687" y="66798"/>
                  <a:pt x="64891" y="65418"/>
                </a:cubicBezTo>
                <a:cubicBezTo>
                  <a:pt x="63494" y="65418"/>
                  <a:pt x="60499" y="64039"/>
                  <a:pt x="56306" y="64039"/>
                </a:cubicBezTo>
                <a:cubicBezTo>
                  <a:pt x="52113" y="62660"/>
                  <a:pt x="47920" y="61280"/>
                  <a:pt x="45124" y="59901"/>
                </a:cubicBezTo>
                <a:cubicBezTo>
                  <a:pt x="42129" y="59901"/>
                  <a:pt x="39334" y="57142"/>
                  <a:pt x="37936" y="55763"/>
                </a:cubicBezTo>
                <a:cubicBezTo>
                  <a:pt x="35141" y="53004"/>
                  <a:pt x="35141" y="50049"/>
                  <a:pt x="35141" y="45911"/>
                </a:cubicBezTo>
                <a:cubicBezTo>
                  <a:pt x="35141" y="43152"/>
                  <a:pt x="35141" y="40394"/>
                  <a:pt x="37936" y="37635"/>
                </a:cubicBezTo>
                <a:cubicBezTo>
                  <a:pt x="39334" y="34876"/>
                  <a:pt x="42129" y="33300"/>
                  <a:pt x="46522" y="31921"/>
                </a:cubicBezTo>
                <a:cubicBezTo>
                  <a:pt x="50715" y="30541"/>
                  <a:pt x="54908" y="30541"/>
                  <a:pt x="59101" y="30541"/>
                </a:cubicBezTo>
                <a:cubicBezTo>
                  <a:pt x="63494" y="30541"/>
                  <a:pt x="67687" y="30541"/>
                  <a:pt x="70482" y="31921"/>
                </a:cubicBezTo>
                <a:cubicBezTo>
                  <a:pt x="73277" y="31921"/>
                  <a:pt x="76073" y="33300"/>
                  <a:pt x="77470" y="34876"/>
                </a:cubicBezTo>
                <a:cubicBezTo>
                  <a:pt x="78868" y="36256"/>
                  <a:pt x="80266" y="37635"/>
                  <a:pt x="81663" y="40394"/>
                </a:cubicBezTo>
                <a:cubicBezTo>
                  <a:pt x="83261" y="41773"/>
                  <a:pt x="83261" y="43152"/>
                  <a:pt x="83261" y="44532"/>
                </a:cubicBezTo>
                <a:cubicBezTo>
                  <a:pt x="83261" y="45911"/>
                  <a:pt x="83261" y="47290"/>
                  <a:pt x="81663" y="48669"/>
                </a:cubicBezTo>
                <a:cubicBezTo>
                  <a:pt x="80266" y="50049"/>
                  <a:pt x="78868" y="50049"/>
                  <a:pt x="76073" y="50049"/>
                </a:cubicBezTo>
                <a:cubicBezTo>
                  <a:pt x="74675" y="50049"/>
                  <a:pt x="73277" y="50049"/>
                  <a:pt x="73277" y="48669"/>
                </a:cubicBezTo>
                <a:cubicBezTo>
                  <a:pt x="71880" y="48669"/>
                  <a:pt x="70482" y="47290"/>
                  <a:pt x="70482" y="45911"/>
                </a:cubicBezTo>
                <a:cubicBezTo>
                  <a:pt x="69084" y="44532"/>
                  <a:pt x="67687" y="41773"/>
                  <a:pt x="66289" y="41773"/>
                </a:cubicBezTo>
                <a:cubicBezTo>
                  <a:pt x="64891" y="40394"/>
                  <a:pt x="62096" y="39014"/>
                  <a:pt x="59101" y="39014"/>
                </a:cubicBezTo>
                <a:cubicBezTo>
                  <a:pt x="54908" y="39014"/>
                  <a:pt x="52113" y="40394"/>
                  <a:pt x="50715" y="41773"/>
                </a:cubicBezTo>
                <a:cubicBezTo>
                  <a:pt x="49317" y="43152"/>
                  <a:pt x="47920" y="44532"/>
                  <a:pt x="47920" y="45911"/>
                </a:cubicBezTo>
                <a:cubicBezTo>
                  <a:pt x="47920" y="45911"/>
                  <a:pt x="47920" y="47290"/>
                  <a:pt x="49317" y="47290"/>
                </a:cubicBezTo>
                <a:cubicBezTo>
                  <a:pt x="49317" y="48669"/>
                  <a:pt x="50715" y="48669"/>
                  <a:pt x="52113" y="50049"/>
                </a:cubicBezTo>
                <a:cubicBezTo>
                  <a:pt x="52113" y="50049"/>
                  <a:pt x="53510" y="51428"/>
                  <a:pt x="54908" y="51428"/>
                </a:cubicBezTo>
                <a:cubicBezTo>
                  <a:pt x="56306" y="51428"/>
                  <a:pt x="59101" y="51428"/>
                  <a:pt x="62096" y="53004"/>
                </a:cubicBezTo>
                <a:cubicBezTo>
                  <a:pt x="64891" y="53004"/>
                  <a:pt x="69084" y="54384"/>
                  <a:pt x="71880" y="55763"/>
                </a:cubicBezTo>
                <a:cubicBezTo>
                  <a:pt x="74675" y="55763"/>
                  <a:pt x="77470" y="57142"/>
                  <a:pt x="78868" y="58522"/>
                </a:cubicBezTo>
                <a:cubicBezTo>
                  <a:pt x="81663" y="59901"/>
                  <a:pt x="83261" y="61280"/>
                  <a:pt x="84658" y="64039"/>
                </a:cubicBezTo>
                <a:cubicBezTo>
                  <a:pt x="86056" y="65418"/>
                  <a:pt x="86056" y="68177"/>
                  <a:pt x="86056" y="70935"/>
                </a:cubicBezTo>
                <a:cubicBezTo>
                  <a:pt x="86056" y="75270"/>
                  <a:pt x="84658" y="78029"/>
                  <a:pt x="83261" y="80788"/>
                </a:cubicBezTo>
                <a:close/>
                <a:moveTo>
                  <a:pt x="119800" y="89064"/>
                </a:moveTo>
                <a:lnTo>
                  <a:pt x="119800" y="89064"/>
                </a:lnTo>
                <a:cubicBezTo>
                  <a:pt x="119800" y="105812"/>
                  <a:pt x="105823" y="119802"/>
                  <a:pt x="90249" y="119802"/>
                </a:cubicBezTo>
                <a:cubicBezTo>
                  <a:pt x="81663" y="119802"/>
                  <a:pt x="74675" y="115665"/>
                  <a:pt x="69084" y="111330"/>
                </a:cubicBezTo>
                <a:cubicBezTo>
                  <a:pt x="66289" y="111330"/>
                  <a:pt x="63494" y="111330"/>
                  <a:pt x="59101" y="111330"/>
                </a:cubicBezTo>
                <a:cubicBezTo>
                  <a:pt x="30948" y="111330"/>
                  <a:pt x="6988" y="89064"/>
                  <a:pt x="6988" y="59901"/>
                </a:cubicBezTo>
                <a:cubicBezTo>
                  <a:pt x="6988" y="57142"/>
                  <a:pt x="6988" y="54384"/>
                  <a:pt x="8386" y="50049"/>
                </a:cubicBezTo>
                <a:cubicBezTo>
                  <a:pt x="2795" y="45911"/>
                  <a:pt x="0" y="37635"/>
                  <a:pt x="0" y="30541"/>
                </a:cubicBezTo>
                <a:cubicBezTo>
                  <a:pt x="0" y="13990"/>
                  <a:pt x="12579" y="0"/>
                  <a:pt x="29550" y="0"/>
                </a:cubicBezTo>
                <a:cubicBezTo>
                  <a:pt x="37936" y="0"/>
                  <a:pt x="45124" y="4137"/>
                  <a:pt x="50715" y="8275"/>
                </a:cubicBezTo>
                <a:cubicBezTo>
                  <a:pt x="53510" y="8275"/>
                  <a:pt x="56306" y="8275"/>
                  <a:pt x="59101" y="8275"/>
                </a:cubicBezTo>
                <a:cubicBezTo>
                  <a:pt x="88851" y="8275"/>
                  <a:pt x="112811" y="30541"/>
                  <a:pt x="112811" y="59901"/>
                </a:cubicBezTo>
                <a:cubicBezTo>
                  <a:pt x="112811" y="62660"/>
                  <a:pt x="111414" y="65418"/>
                  <a:pt x="111414" y="69556"/>
                </a:cubicBezTo>
                <a:cubicBezTo>
                  <a:pt x="117004" y="73891"/>
                  <a:pt x="119800" y="82167"/>
                  <a:pt x="119800" y="890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5019"/>
          <p:cNvSpPr/>
          <p:nvPr/>
        </p:nvSpPr>
        <p:spPr>
          <a:xfrm>
            <a:off x="835200" y="3454560"/>
            <a:ext cx="239400" cy="241200"/>
          </a:xfrm>
          <a:custGeom>
            <a:avLst/>
            <a:gdLst>
              <a:gd name="textAreaLeft" fmla="*/ 0 w 239400"/>
              <a:gd name="textAreaRight" fmla="*/ 239760 w 239400"/>
              <a:gd name="textAreaTop" fmla="*/ 0 h 241200"/>
              <a:gd name="textAreaBottom" fmla="*/ 241560 h 24120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5020"/>
          <p:cNvSpPr/>
          <p:nvPr/>
        </p:nvSpPr>
        <p:spPr>
          <a:xfrm>
            <a:off x="838080" y="3882960"/>
            <a:ext cx="238320" cy="195480"/>
          </a:xfrm>
          <a:custGeom>
            <a:avLst/>
            <a:gdLst>
              <a:gd name="textAreaLeft" fmla="*/ 0 w 238320"/>
              <a:gd name="textAreaRight" fmla="*/ 238680 w 238320"/>
              <a:gd name="textAreaTop" fmla="*/ 0 h 195480"/>
              <a:gd name="textAreaBottom" fmla="*/ 195840 h 1954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5030"/>
          <p:cNvSpPr/>
          <p:nvPr/>
        </p:nvSpPr>
        <p:spPr>
          <a:xfrm>
            <a:off x="812880" y="3060720"/>
            <a:ext cx="284040" cy="193680"/>
          </a:xfrm>
          <a:custGeom>
            <a:avLst/>
            <a:gdLst>
              <a:gd name="textAreaLeft" fmla="*/ 0 w 284040"/>
              <a:gd name="textAreaRight" fmla="*/ 284400 w 284040"/>
              <a:gd name="textAreaTop" fmla="*/ 0 h 193680"/>
              <a:gd name="textAreaBottom" fmla="*/ 194040 h 19368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Rectangle 28"/>
          <p:cNvSpPr/>
          <p:nvPr/>
        </p:nvSpPr>
        <p:spPr>
          <a:xfrm>
            <a:off x="663480" y="1971720"/>
            <a:ext cx="5392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Montserrat SemiBold"/>
                <a:ea typeface="Roboto Slab"/>
              </a:rPr>
              <a:t>Get In Touch</a:t>
            </a:r>
            <a:endParaRPr b="0" lang="en-US" sz="4000" spc="-1" strike="noStrike">
              <a:solidFill>
                <a:srgbClr val="000000"/>
              </a:solidFill>
              <a:latin typeface="Calibri"/>
            </a:endParaRPr>
          </a:p>
        </p:txBody>
      </p:sp>
      <p:sp>
        <p:nvSpPr>
          <p:cNvPr id="422" name="Rectangle 29"/>
          <p:cNvSpPr/>
          <p:nvPr/>
        </p:nvSpPr>
        <p:spPr>
          <a:xfrm>
            <a:off x="812880" y="5433840"/>
            <a:ext cx="33321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423" name="Rectangle 30"/>
          <p:cNvSpPr/>
          <p:nvPr/>
        </p:nvSpPr>
        <p:spPr>
          <a:xfrm>
            <a:off x="812880" y="5183280"/>
            <a:ext cx="1736640" cy="25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Montserrat Medium"/>
                <a:ea typeface="Roboto Slab"/>
              </a:rPr>
              <a:t>WRITE SOMETITLE</a:t>
            </a:r>
            <a:endParaRPr b="0" lang="en-US" sz="1000" spc="-1" strike="noStrike">
              <a:solidFill>
                <a:srgbClr val="000000"/>
              </a:solidFill>
              <a:latin typeface="Calibri"/>
            </a:endParaRPr>
          </a:p>
        </p:txBody>
      </p:sp>
      <p:sp>
        <p:nvSpPr>
          <p:cNvPr id="424" name="Rectangle 24"/>
          <p:cNvSpPr/>
          <p:nvPr/>
        </p:nvSpPr>
        <p:spPr>
          <a:xfrm>
            <a:off x="1208160" y="4255920"/>
            <a:ext cx="1736640" cy="24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sp>
        <p:nvSpPr>
          <p:cNvPr id="425" name="Rectangle 25"/>
          <p:cNvSpPr/>
          <p:nvPr/>
        </p:nvSpPr>
        <p:spPr>
          <a:xfrm>
            <a:off x="1201680" y="3827520"/>
            <a:ext cx="173664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sp>
        <p:nvSpPr>
          <p:cNvPr id="426" name="Rectangle 31"/>
          <p:cNvSpPr/>
          <p:nvPr/>
        </p:nvSpPr>
        <p:spPr>
          <a:xfrm>
            <a:off x="1201680" y="3429000"/>
            <a:ext cx="173664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sp>
        <p:nvSpPr>
          <p:cNvPr id="427" name="Rectangle 32"/>
          <p:cNvSpPr/>
          <p:nvPr/>
        </p:nvSpPr>
        <p:spPr>
          <a:xfrm>
            <a:off x="1201680" y="3030480"/>
            <a:ext cx="173664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pic>
        <p:nvPicPr>
          <p:cNvPr id="428" name="" descr=""/>
          <p:cNvPicPr/>
          <p:nvPr/>
        </p:nvPicPr>
        <p:blipFill>
          <a:blip r:embed="rId1"/>
          <a:stretch/>
        </p:blipFill>
        <p:spPr>
          <a:xfrm>
            <a:off x="5257800" y="0"/>
            <a:ext cx="485784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2"/>
          <p:cNvSpPr/>
          <p:nvPr/>
        </p:nvSpPr>
        <p:spPr>
          <a:xfrm>
            <a:off x="687240" y="3032280"/>
            <a:ext cx="438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SemiBold"/>
                <a:ea typeface="Roboto Slab"/>
              </a:rPr>
              <a:t>Thanks</a:t>
            </a:r>
            <a:endParaRPr b="0" lang="en-US" sz="5400" spc="-1" strike="noStrike">
              <a:solidFill>
                <a:srgbClr val="000000"/>
              </a:solidFill>
              <a:latin typeface="Calibri"/>
            </a:endParaRPr>
          </a:p>
        </p:txBody>
      </p:sp>
      <p:sp>
        <p:nvSpPr>
          <p:cNvPr id="430" name="Rectangle 23"/>
          <p:cNvSpPr/>
          <p:nvPr/>
        </p:nvSpPr>
        <p:spPr>
          <a:xfrm>
            <a:off x="687240" y="5403960"/>
            <a:ext cx="15004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Lorem Ipsum is simply dummy text of the printing and typesetting</a:t>
            </a:r>
            <a:endParaRPr b="0" lang="en-US" sz="900" spc="-1" strike="noStrike">
              <a:solidFill>
                <a:srgbClr val="000000"/>
              </a:solidFill>
              <a:latin typeface="Calibri"/>
            </a:endParaRPr>
          </a:p>
        </p:txBody>
      </p:sp>
      <p:sp>
        <p:nvSpPr>
          <p:cNvPr id="431" name="Rectangle 11"/>
          <p:cNvSpPr/>
          <p:nvPr/>
        </p:nvSpPr>
        <p:spPr>
          <a:xfrm>
            <a:off x="5207040" y="3429000"/>
            <a:ext cx="6985080" cy="1671480"/>
          </a:xfrm>
          <a:prstGeom prst="rect">
            <a:avLst/>
          </a:prstGeom>
          <a:solidFill>
            <a:srgbClr val="2b0c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2" name="TextBox 29"/>
          <p:cNvSpPr/>
          <p:nvPr/>
        </p:nvSpPr>
        <p:spPr>
          <a:xfrm>
            <a:off x="5905440" y="3664080"/>
            <a:ext cx="481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SemiBold"/>
              </a:rPr>
              <a:t>Being well dressed hasn't much to do with having good clothes. It’s a question of good balance and good common sense</a:t>
            </a:r>
            <a:endParaRPr b="0" lang="en-US" sz="1800" spc="-1" strike="noStrike">
              <a:solidFill>
                <a:srgbClr val="000000"/>
              </a:solidFill>
              <a:latin typeface="Calibri"/>
            </a:endParaRPr>
          </a:p>
        </p:txBody>
      </p:sp>
      <p:pic>
        <p:nvPicPr>
          <p:cNvPr id="433" name="" descr=""/>
          <p:cNvPicPr/>
          <p:nvPr/>
        </p:nvPicPr>
        <p:blipFill>
          <a:blip r:embed="rId1"/>
          <a:stretch/>
        </p:blipFill>
        <p:spPr>
          <a:xfrm>
            <a:off x="3879720" y="1109520"/>
            <a:ext cx="7182000" cy="574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450"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61" name="Shape 5083" descr=""/>
          <p:cNvPicPr/>
          <p:nvPr/>
        </p:nvPicPr>
        <p:blipFill>
          <a:blip r:embed="rId1"/>
          <a:stretch/>
        </p:blipFill>
        <p:spPr>
          <a:xfrm>
            <a:off x="3767040" y="3938760"/>
            <a:ext cx="255600" cy="249120"/>
          </a:xfrm>
          <a:prstGeom prst="rect">
            <a:avLst/>
          </a:prstGeom>
          <a:ln w="0">
            <a:noFill/>
          </a:ln>
        </p:spPr>
      </p:pic>
      <p:sp>
        <p:nvSpPr>
          <p:cNvPr id="462"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69" name="Shape 5093" descr=""/>
          <p:cNvPicPr/>
          <p:nvPr/>
        </p:nvPicPr>
        <p:blipFill>
          <a:blip r:embed="rId2"/>
          <a:stretch/>
        </p:blipFill>
        <p:spPr>
          <a:xfrm>
            <a:off x="4352760" y="3919680"/>
            <a:ext cx="176400" cy="274320"/>
          </a:xfrm>
          <a:prstGeom prst="rect">
            <a:avLst/>
          </a:prstGeom>
          <a:ln w="0">
            <a:noFill/>
          </a:ln>
        </p:spPr>
      </p:pic>
      <p:sp>
        <p:nvSpPr>
          <p:cNvPr id="470"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6T17:16:25Z</dcterms:created>
  <dc:creator>VaiO</dc:creator>
  <dc:description/>
  <dc:language>en-US</dc:language>
  <cp:lastModifiedBy>Harist</cp:lastModifiedBy>
  <dcterms:modified xsi:type="dcterms:W3CDTF">2022-11-10T15:12:06Z</dcterms:modified>
  <cp:revision>28</cp:revision>
  <dc:subject/>
  <dc:title>PowerPoint Presentation</dc:title>
</cp:coreProperties>
</file>